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3219-C81E-4DA1-902E-294D1EECA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79D7-E31C-4C07-89E5-6328DF33B5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7EEB-3F9E-4609-B164-1FEE074DBB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0387-BF3A-4CF0-BF9D-2ADBA81D6D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7854-D856-499E-B4D0-53A44E752B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59A1-FDD3-4974-9A8D-21F83F4C22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24C4-EA34-4911-87E2-8CD94A5DE2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D47A-0AB1-46AE-8E3C-CA4ED15661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5B4-E53C-435B-8D15-40877D5BC4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C018-5F6F-4834-8BD3-843A565E93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0A31-2572-4908-8515-15028F0FFB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E458-9441-4774-80E8-7F0B017A3F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0AC-47AD-4808-BB8E-C29311DB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539-C5CD-4C2F-A092-9D182D2D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EBD-A5A2-410F-A211-DF384AB1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8A9-8082-4786-9AF6-9BBEF56A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DA95-57B0-400E-B025-60306CB6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9F57-4C55-4B7B-A8DB-4419483F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CBEB-730A-46FE-9470-95473A56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36B3-46EE-4C89-A2BB-FF2FAE46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2537-108A-4188-88D8-939281CA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5865-3277-4519-9344-0A8D1371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0F49-DB52-4062-9C2B-64AD7FD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137-F107-47D5-96B6-336DC0BB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7350-F2CF-4F16-9E77-7B056919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219C-5CAD-4F58-A78A-D0A0A513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1973-E9C0-4C0D-B94D-F566D0F8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B425-BCDA-47B0-B9E5-AC5C116B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04B5-A7CD-4985-A84A-E10A938D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C4F-6BAC-436F-BE0E-717E8A67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F3E-A9FA-44C0-B433-35EB4F00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AAB-7018-4E27-93CB-0E87E5D4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A25-37C2-45D3-9654-9B81DDEA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402-7ACF-444A-BE49-0BDE7B2B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30D-5C12-4D6F-AB77-724D7C34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42E-763F-4F8E-888E-E340987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8A83-6140-47FF-966E-1C3437E3F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EAE1-5FC3-437B-935B-47040AB78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.wav"/>
          <p:cNvSpPr/>
          <p:nvPr/>
        </p:nvSpPr>
        <p:spPr>
          <a:xfrm>
            <a:off x="8458200" y="6172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Rectangle 6" descr=""/>
          <p:cNvPicPr/>
          <p:nvPr/>
        </p:nvPicPr>
        <p:blipFill>
          <a:blip r:embed="rId2"/>
          <a:stretch/>
        </p:blipFill>
        <p:spPr>
          <a:xfrm>
            <a:off x="-133200" y="1719360"/>
            <a:ext cx="9459720" cy="120636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7" descr=""/>
          <p:cNvPicPr/>
          <p:nvPr/>
        </p:nvPicPr>
        <p:blipFill>
          <a:blip r:embed="rId3"/>
          <a:stretch/>
        </p:blipFill>
        <p:spPr>
          <a:xfrm>
            <a:off x="1798560" y="2852640"/>
            <a:ext cx="55468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7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op Toy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oys.wav"/>
          <p:cNvSpPr/>
          <p:nvPr/>
        </p:nvSpPr>
        <p:spPr>
          <a:xfrm>
            <a:off x="304920" y="62485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8" descr="http://www.mikanet.com/museum/images/rock_em_sock_em.jpg"/>
          <p:cNvPicPr/>
          <p:nvPr/>
        </p:nvPicPr>
        <p:blipFill>
          <a:blip r:embed="rId2"/>
          <a:stretch/>
        </p:blipFill>
        <p:spPr>
          <a:xfrm>
            <a:off x="2286000" y="2514600"/>
            <a:ext cx="5257800" cy="344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692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sc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4" name="Picture 7" descr="http://www.partywedding.com/img/rightcategory/disco-party-supplies.jpg"/>
          <p:cNvPicPr/>
          <p:nvPr/>
        </p:nvPicPr>
        <p:blipFill>
          <a:blip r:embed="rId2"/>
          <a:stretch/>
        </p:blipFill>
        <p:spPr>
          <a:xfrm>
            <a:off x="3429000" y="20574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Thanks For Watching!!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Stay Groovy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http://www.olivia-newtonjohn.com/images/db/album/grease-a.jpg"/>
          <p:cNvPicPr/>
          <p:nvPr/>
        </p:nvPicPr>
        <p:blipFill>
          <a:blip r:embed="rId2"/>
          <a:stretch/>
        </p:blipFill>
        <p:spPr>
          <a:xfrm>
            <a:off x="3733920" y="1676520"/>
            <a:ext cx="4800600" cy="477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rea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Grease.wav"/>
          <p:cNvSpPr/>
          <p:nvPr/>
        </p:nvSpPr>
        <p:spPr>
          <a:xfrm>
            <a:off x="3049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41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ar Wa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Picture 2" descr="http://www.hauntedshop.co.uk/images/starwars1.jpg"/>
          <p:cNvPicPr/>
          <p:nvPr/>
        </p:nvPicPr>
        <p:blipFill>
          <a:blip r:embed="rId2"/>
          <a:stretch/>
        </p:blipFill>
        <p:spPr>
          <a:xfrm>
            <a:off x="2590920" y="2057400"/>
            <a:ext cx="5391000" cy="4219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Jaw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Jaws.wav"/>
          <p:cNvSpPr/>
          <p:nvPr/>
        </p:nvSpPr>
        <p:spPr>
          <a:xfrm>
            <a:off x="228600" y="6248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033" descr="http://www.jawsmovie.com/wp-content/uploads/2008/12/jaws1cr.jpg"/>
          <p:cNvPicPr/>
          <p:nvPr/>
        </p:nvPicPr>
        <p:blipFill>
          <a:blip r:embed="rId2"/>
          <a:stretch/>
        </p:blipFill>
        <p:spPr>
          <a:xfrm>
            <a:off x="4191120" y="990720"/>
            <a:ext cx="37018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32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Brady Bun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Picture 4" descr="http://www.characterent.com/blog/wp-content/uploads/2009/02/brady-bunch04.jpg"/>
          <p:cNvPicPr/>
          <p:nvPr/>
        </p:nvPicPr>
        <p:blipFill>
          <a:blip r:embed="rId2"/>
          <a:stretch/>
        </p:blipFill>
        <p:spPr>
          <a:xfrm>
            <a:off x="4495680" y="1676520"/>
            <a:ext cx="385632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The Brady Bunch.wav"/>
          <p:cNvSpPr/>
          <p:nvPr/>
        </p:nvSpPr>
        <p:spPr>
          <a:xfrm>
            <a:off x="22860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02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Addams Famil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Picture 5" descr="http://www.wordsworks.co.uk/wp-content/uploads/2009/12/addams_family_portrait.jpg"/>
          <p:cNvPicPr/>
          <p:nvPr/>
        </p:nvPicPr>
        <p:blipFill>
          <a:blip r:embed="rId2"/>
          <a:stretch/>
        </p:blipFill>
        <p:spPr>
          <a:xfrm>
            <a:off x="1676520" y="2133720"/>
            <a:ext cx="5181480" cy="437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9" name="The Adams Family.wav"/>
          <p:cNvSpPr/>
          <p:nvPr/>
        </p:nvSpPr>
        <p:spPr>
          <a:xfrm>
            <a:off x="228600" y="6248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73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IS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1" name="Picture 6" descr="http://pub.tv2.no/multimedia/TV2/archive/00273/KISS_273184c.jpg"/>
          <p:cNvPicPr/>
          <p:nvPr/>
        </p:nvPicPr>
        <p:blipFill>
          <a:blip r:embed="rId2"/>
          <a:stretch/>
        </p:blipFill>
        <p:spPr>
          <a:xfrm>
            <a:off x="1143000" y="1981080"/>
            <a:ext cx="6831000" cy="455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KISS.wav"/>
          <p:cNvSpPr/>
          <p:nvPr/>
        </p:nvSpPr>
        <p:spPr>
          <a:xfrm>
            <a:off x="304920" y="6172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46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erosmit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Picture 5" descr="http://www.boston.com/bostonglobe/ideas/brainiac/aerosmith.jpg"/>
          <p:cNvPicPr/>
          <p:nvPr/>
        </p:nvPicPr>
        <p:blipFill>
          <a:blip r:embed="rId2"/>
          <a:stretch/>
        </p:blipFill>
        <p:spPr>
          <a:xfrm>
            <a:off x="3962520" y="1523880"/>
            <a:ext cx="4519440" cy="503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ly Joe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7" name="Picture 5" descr="http://www.brightgreen.net/Albums/Billy_Joel_Albums/pics/billy_joel_003.jpg"/>
          <p:cNvPicPr/>
          <p:nvPr/>
        </p:nvPicPr>
        <p:blipFill>
          <a:blip r:embed="rId2"/>
          <a:stretch/>
        </p:blipFill>
        <p:spPr>
          <a:xfrm>
            <a:off x="4114800" y="1295280"/>
            <a:ext cx="390528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06:39Z</dcterms:created>
  <dc:creator>Richland School District</dc:creator>
  <dc:description/>
  <dc:language>en-US</dc:language>
  <cp:lastModifiedBy>Richland School District</cp:lastModifiedBy>
  <dcterms:modified xsi:type="dcterms:W3CDTF">2010-05-21T18:21:10Z</dcterms:modified>
  <cp:revision>10</cp:revision>
  <dc:subject/>
  <dc:title>PowerPoint Presentation</dc:title>
</cp:coreProperties>
</file>